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E5B-CF25-4CC6-8F33-1506E1F8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942-26DB-43C2-9BC2-5E53CE56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826-9F7D-40A8-B7A5-A8731A7E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DEF-1075-44D1-8381-AF9B90CC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27B7-EB6B-46EB-A858-9016CF4E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A7E6-3B0D-4445-99B6-8ECA20C0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166B-46DC-44FC-893A-2FC4B240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EADB-C5DB-4D77-9288-8306A6B1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CD06-9A18-4793-8AD8-A27704A6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4311-B456-4387-BDDC-FDD6F271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2440-7C95-4AE9-82B7-EE98A4E6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9FC-8334-45EF-8C12-2EB99DCA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BBA1-8E6B-4A00-B665-B379E94D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5F8A-23D2-48D9-8A84-43177F4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0FE3-FCBD-4338-A359-8FA0341E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D57F-2930-4167-B067-FAD50D5D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B93-F620-45AF-86EC-D6BD7079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018-F4A0-4AA0-BD34-4B2D0698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907-A22F-4F9B-8A2D-9DDAA936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898-77A9-4B17-887E-3BE099D4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454-0AD2-48F0-A090-329C3D41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A11-07E8-4F7A-94F1-20C884B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CBB-D335-43BC-9A88-5D520B7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0BA-74C8-4647-8FD9-B80AC1F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360F-9E38-4E06-85C9-85D8ACE5E8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6AD5-3F98-4C37-92DA-D0FDCAB06E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ttle-miss-pink.deviantart.com/art/Hate-38191635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xpressions Of M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Monika Balfan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ango Danc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905120"/>
            <a:ext cx="5943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irling and swirling to a Latin be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ing in ways that no one d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 skirt of burgundy flowers flies up hig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5909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1066680"/>
            <a:ext cx="5562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e only laughs, silly men stop and s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will never work up the nerv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ai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by two, they separate by pair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one she dances, not needing a m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2583000" cy="42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38280" y="1371600"/>
            <a:ext cx="6248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 eyes are of a kind most r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ep black onyx that stare through your so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e wishes this night to never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ats that last eternally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sweet ai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371760" cy="51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3276720" y="1371600"/>
            <a:ext cx="5638680" cy="4622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sonnet of 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248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mson hate courses through me like a fi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t up in the starry rage of the 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mile can only make the flames high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 laugh even though you know I’m r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 scream and yell, trying to make you see the l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thing but violence results in the en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y to change your will with all my m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ed to make sense of the rules you b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00200" y="762120"/>
            <a:ext cx="5867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idges that we have yet to m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te is my poison, stealing my breat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tience is the gift that no one can len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mson hate, blood red de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ack chaos morphing into burgun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’t you see the hate that you pull out of m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001000" cy="5695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by Jagu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81080"/>
            <a:ext cx="81536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Little baby jaguar, stalking in the mid-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Camouflages in darkness, hidden from their s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Angel roar resounds throughout the darkened playgr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A little child comes out to play with curiosity un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asting scarlet blood running through the ea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earching old places of his mother’s birt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plashing in the water, deep with his bug best friends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Muddy paw prints trek through the dirty be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685800"/>
            <a:ext cx="594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pping at the kisses of sweet dew laid for h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y time that lasts forever, hoping it will never c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ncing into the Moon Mother’s embr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keeping with the ancient predator’s c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t of me is a little jaguar ch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brings me to this deep dark, wi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2578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ictures us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little-miss-pink.deviantart.com/art/Hate-3819163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poisonedpure.deviantart.com/art/Hate-Love-206607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rayned-voodoo.deviantart.com/art/love-and-hate-3653307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manx-works.deviantart.com/art/Black-Jaguar-414611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robbobert.deviantart.com/art/The-Jaguar-s-Gaze-120725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miezbiez.deviantart.com/art/Jaguar-portrait-3527945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callalilynini.deviantart.com/art/Salsa-Dancer-5329938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oubtful-della.deviantart.com/art/Flamenco-2087787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salsagrooves.ie/images/contact.gi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21:30:21Z</dcterms:created>
  <dc:creator>Roni</dc:creator>
  <dc:description/>
  <dc:language>en-US</dc:language>
  <cp:lastModifiedBy>Roni</cp:lastModifiedBy>
  <dcterms:modified xsi:type="dcterms:W3CDTF">2008-05-31T20:30:40Z</dcterms:modified>
  <cp:revision>3</cp:revision>
  <dc:subject/>
  <dc:title>Expressions Of Me</dc:title>
</cp:coreProperties>
</file>